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7BA3-17FB-4BC7-A8B0-1014149FC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7A21-4AB5-4B31-A4B9-9FF8C46E6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27B9-0266-44A4-A6D7-075B69BDF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A62B-B1F0-42D4-9F5E-7E2EBB082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66E3-D1C3-42C0-BE75-BF7047C76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7794-A9D0-46D6-B264-82194311C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55C1-AB1E-4B24-BF31-964BD83D3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8BE7-2D91-4016-824B-F13D621C6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C21C-E3E8-4263-B56F-3B7D66384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C21B-AF7A-4BA0-B085-4F5CCA638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BD5-96B2-4E1F-831A-5637523E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CEFD-E549-4CEE-9D4B-0AB13BEF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AFFA-6814-4F53-B95F-4331D234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3C68-5EA1-4B93-B5D1-61B29CF4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B1E-31B2-4C64-9A55-38458A96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ACE0-93CD-4990-B3F1-DC3CED1A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884D-70F9-433D-98DA-49B1214D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0E5-8A68-4CAF-B70C-B0AFB99A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B4A3-7662-4B43-A93A-131CCF37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0C66-5265-4010-A190-0F2FE457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57B-86C1-4CD9-AA30-BCB64824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1C0-42C1-43A2-BD73-090E0E10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0B5F-8FCB-4130-8232-2930A5E06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1463040" y="990720"/>
            <a:ext cx="613836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4900" spc="-1" strike="noStrike">
                <a:solidFill>
                  <a:srgbClr val="ffffff"/>
                </a:solidFill>
                <a:latin typeface="Arial"/>
                <a:ea typeface="Lucida Sans Unicode"/>
              </a:rPr>
              <a:t>Trading My Sorrow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06520" y="654480"/>
            <a:ext cx="80733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trading my sorro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trading my sh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laying it down for the joy of the L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trading my sick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trading my p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laying them down for the joy of the L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01840" y="647280"/>
            <a:ext cx="8411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horu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we say yes Lord, yes Lord, yes, yes L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Yes Lord, yes Lord, yes, yes, L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Yes Lord, yes Lord, yes, yes Lord, Ame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806040" y="251640"/>
            <a:ext cx="75844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pressed but not crush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ecuted not abando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truck down but not destroy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blessed beyond the cur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r his promise will end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his joy's gonna be my streng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ough the sorrow may last for the n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is joy comes with the mo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506520" y="654480"/>
            <a:ext cx="80733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trading my sorro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trading my sh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laying it down for the joy of the L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trading my sick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trading my p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laying them down for the joy of the L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501840" y="649080"/>
            <a:ext cx="84117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horu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we say yes Lord, yes Lord, yes, yes L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Yes Lord, yes Lord, yes, yes, L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Yes Lord, yes Lord, yes, yes Lord, Ame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2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806040" y="251640"/>
            <a:ext cx="75844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pressed but not crush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ecuted not abando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truck down but not destroy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blessed beyond the cur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r his promise will end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his joy's gonna be my streng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ough the sorrow may last for the n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is joy comes with the mo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506520" y="654480"/>
            <a:ext cx="80733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trading my sorro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trading my sh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laying it down for the joy of the L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trading my sick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trading my p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laying them down for the joy of the L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01840" y="649080"/>
            <a:ext cx="84117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horu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we say yes Lord, yes Lord, yes, yes L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Yes Lord, yes Lord, yes, yes, L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Yes Lord, yes Lord, yes, yes Lord, Ame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2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2:16:58Z</dcterms:created>
  <dc:creator>Peter</dc:creator>
  <dc:description/>
  <dc:language>en-US</dc:language>
  <cp:lastModifiedBy>Peter</cp:lastModifiedBy>
  <dcterms:modified xsi:type="dcterms:W3CDTF">2010-02-11T02:50:55Z</dcterms:modified>
  <cp:revision>4</cp:revision>
  <dc:subject/>
  <dc:title>Slide 1</dc:title>
</cp:coreProperties>
</file>